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043-874C-423A-BF61-26F8E46C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550-4A02-44A9-9C9A-CA86D7CD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D88-2549-4008-ABFC-ABD146DA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36B-AFAD-4156-9A81-C818A3F5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FBF-925F-48F7-BC6C-6BB2291E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578-1923-4503-A279-6E6CAD08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9B4-2496-41D7-A270-A133233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828-1463-4E7C-9CAC-C80DAFA8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87A-DF2C-49E5-B888-3CAC2C2D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ED5-7B5F-4AA4-95E0-DCDBAB6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6F8-E776-44CC-98BE-DDD2C8C8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4EC-3671-412B-A433-AF390753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91C-78C9-4F95-924E-CDF90C737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________ 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Clase 6 NH (601)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25 de septiembre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# 3: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son tus amigo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Write any words, in Spanish, that you can use to describe a person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Ejercicios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Le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Palabras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1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2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 (1-4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3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 (1-4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8954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Tarea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5:33:35Z</dcterms:created>
  <dc:creator>Helen Zumaeta</dc:creator>
  <dc:description/>
  <dc:language>en-US</dc:language>
  <cp:lastModifiedBy>Helen Zumaeta</cp:lastModifiedBy>
  <dcterms:modified xsi:type="dcterms:W3CDTF">2012-09-24T20:13:26Z</dcterms:modified>
  <cp:revision>6</cp:revision>
  <dc:subject/>
  <dc:title>Me llamo________   Clase 6 NH La fecha es el 11 de enero del 2012</dc:title>
</cp:coreProperties>
</file>